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08E-25C1-4B8B-BF35-F1716328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353-A66C-4520-9085-4A0268A0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2F7-DAA8-47FD-B047-739DE94B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A76-43AC-4738-AF05-65B785D1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C4E-4534-4BBA-84DF-2E63AC99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EAF-E6A9-4C90-AB8A-7069690F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3747-CCF0-4368-8A88-8A435246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496-AB29-4E78-B26D-B1FB298C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161-1A11-4978-A08A-21B76ABA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B75-CF1C-41D2-84A5-E22823B5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C3A-FCE6-48F3-8309-76830B60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155-7B15-40AB-9DF9-0EAEFA3B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B1F5-ED3C-45E5-93F2-F854539AF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225960" cy="3676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76520" y="3200400"/>
            <a:ext cx="4433760" cy="3321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15000" y="2590920"/>
            <a:ext cx="2867040" cy="385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505320" y="304920"/>
            <a:ext cx="53337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ush Script MT"/>
              </a:rPr>
              <a:t>The Scarlet Let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rush Script MT"/>
              <a:ea typeface="Brush Script M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3962520"/>
            <a:ext cx="2971800" cy="26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"A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19920" y="5791320"/>
            <a:ext cx="3124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gry Peopl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 rot="1406400">
            <a:off x="2514240" y="2666520"/>
            <a:ext cx="4538520" cy="10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rthur Dimmesd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3:24:49Z</dcterms:created>
  <dc:creator>dcsuser</dc:creator>
  <dc:description/>
  <dc:language>en-US</dc:language>
  <cp:lastModifiedBy>dcsuser</cp:lastModifiedBy>
  <dcterms:modified xsi:type="dcterms:W3CDTF">2011-03-23T13:34:36Z</dcterms:modified>
  <cp:revision>2</cp:revision>
  <dc:subject/>
  <dc:title>Slide 1</dc:title>
</cp:coreProperties>
</file>